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A03D-CBF5-4E57-9716-F0695F73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8494-A1A7-4E6B-B99F-E2AD1D70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C1C5-7180-4FF4-A490-53BF111F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A34F-8D82-436F-8A94-C34984D9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90AE-A18D-4B88-84B8-AC094499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E395-E78B-4B9E-A18D-B05C8C61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6977-30CD-44DF-9B46-C5E162D4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765B-F777-426C-942D-16039540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F3B1-E0F9-4368-A028-1982CE40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1C4C-57C1-4A27-BDFA-3D4D8769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835B-BAD4-44C7-B745-C1A25718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C1DD-4AEC-4D31-8CC2-E3BED0F6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op_04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924840" cy="6876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75FD-EC91-4E50-B9ED-C069D26C7486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500" spc="-1" strike="noStrike">
                <a:solidFill>
                  <a:srgbClr val="305284"/>
                </a:solidFill>
                <a:latin typeface="Arial"/>
                <a:ea typeface="A-OTF じゅん Pro 501"/>
              </a:rPr>
              <a:t>薬は正しく使用しましょう</a:t>
            </a:r>
            <a:br>
              <a:rPr sz="6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〔文字は自由に変更できます。〕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922400"/>
            <a:ext cx="784872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ＤＦＰPOP1体W12"/>
                <a:ea typeface="ＤＦＰPOP1体W12"/>
              </a:rPr>
              <a:t>薬は医師や薬剤師の指示に従い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ＤＦＰPOP1体W12"/>
                <a:ea typeface="ＤＦＰPOP1体W12"/>
              </a:rPr>
              <a:t>正しく服用しましょ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808080"/>
                </a:solidFill>
                <a:latin typeface="ＭＳ Ｐゴシック"/>
              </a:rPr>
              <a:t>自己判断で中止せず、処方された期間はきちん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808080"/>
                </a:solidFill>
                <a:latin typeface="ＭＳ Ｐゴシック"/>
              </a:rPr>
              <a:t>服用しましょ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〔文字は自由に変更できます。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02:51:39Z</dcterms:created>
  <dc:creator>k-yoshikawa</dc:creator>
  <dc:description/>
  <dc:language>en-US</dc:language>
  <cp:lastModifiedBy>atsumiryudo</cp:lastModifiedBy>
  <dcterms:modified xsi:type="dcterms:W3CDTF">2009-08-11T02:46:50Z</dcterms:modified>
  <cp:revision>60</cp:revision>
  <dc:subject/>
  <dc:title>スライド 1</dc:title>
</cp:coreProperties>
</file>