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D4E2-8E17-415E-8EFB-FBBE59D3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AB5-B0A3-4B91-AE79-C4DD32FA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4C55-66AA-48DA-A103-FC0A4C9B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3EFD-8999-4307-AC19-2822C351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FE9E-BBE6-4A4D-8213-2ED56BF6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CA5A-6616-4660-B6A7-BAF0B371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AEF2-05D5-46D9-9572-55A704BC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D7D-318F-44DC-AEFA-1E997622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3C15-E218-4C89-8165-E7282C6F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7A9A-9C98-411B-AA2F-4C2E8CF8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0846-3207-42BD-97DE-FFF41BE8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ECDA-B1B0-4BDF-B1FC-71914673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op_02" descr=""/>
          <p:cNvPicPr/>
          <p:nvPr/>
        </p:nvPicPr>
        <p:blipFill>
          <a:blip r:embed="rId2"/>
          <a:stretch/>
        </p:blipFill>
        <p:spPr>
          <a:xfrm>
            <a:off x="-9360" y="-9360"/>
            <a:ext cx="6876720" cy="9924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3B5D-E5A1-4591-9307-AE6CCC6BF1E0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000" spc="-1" strike="noStrike">
                <a:solidFill>
                  <a:srgbClr val="df4e79"/>
                </a:solidFill>
                <a:latin typeface="Arial"/>
                <a:ea typeface="A-OTF じゅん Pro 501"/>
              </a:rPr>
              <a:t>診察受付時間</a:t>
            </a:r>
            <a:br>
              <a:rPr sz="6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〔文字は自由に変更できます。〕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41320" y="325116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df4e79"/>
                </a:solidFill>
                <a:latin typeface="Arial"/>
                <a:ea typeface="A-OTF じゅん Pro 34"/>
              </a:rPr>
              <a:t>■</a:t>
            </a:r>
            <a:r>
              <a:rPr b="0" lang="ja-JP" sz="2000" spc="-1" strike="noStrike">
                <a:solidFill>
                  <a:srgbClr val="df4e79"/>
                </a:solidFill>
                <a:latin typeface="Arial"/>
                <a:ea typeface="A-OTF じゅん Pro 34"/>
              </a:rPr>
              <a:t>平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99440" y="372096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-OTF じゅん Pro 34"/>
              </a:rPr>
              <a:t>午前　　　　時　　　分　〜　　　時　　　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99440" y="410220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-OTF じゅん Pro 34"/>
              </a:rPr>
              <a:t>午後　　　　時　　　分　〜　　　時　　　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8280" y="52182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df4e79"/>
                </a:solidFill>
                <a:latin typeface="Arial"/>
                <a:ea typeface="A-OTF じゅん Pro 34"/>
              </a:rPr>
              <a:t>■</a:t>
            </a:r>
            <a:r>
              <a:rPr b="0" lang="ja-JP" sz="2000" spc="-1" strike="noStrike">
                <a:solidFill>
                  <a:srgbClr val="df4e79"/>
                </a:solidFill>
                <a:latin typeface="Arial"/>
                <a:ea typeface="A-OTF じゅん Pro 34"/>
              </a:rPr>
              <a:t>土曜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5280" y="5688000"/>
            <a:ext cx="43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-OTF じゅん Pro 34"/>
              </a:rPr>
              <a:t>午前　　　　時　　　分　〜　　　時　　　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-OTF じゅん Pro 34"/>
              </a:rPr>
              <a:t>午後休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8280" y="714708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df4e79"/>
                </a:solidFill>
                <a:latin typeface="Arial"/>
                <a:ea typeface="A-OTF じゅん Pro 34"/>
              </a:rPr>
              <a:t>■</a:t>
            </a:r>
            <a:r>
              <a:rPr b="0" lang="ja-JP" sz="2000" spc="-1" strike="noStrike">
                <a:solidFill>
                  <a:srgbClr val="df4e79"/>
                </a:solidFill>
                <a:latin typeface="Arial"/>
                <a:ea typeface="A-OTF じゅん Pro 34"/>
              </a:rPr>
              <a:t>休診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02:51:39Z</dcterms:created>
  <dc:creator>k-yoshikawa</dc:creator>
  <dc:description/>
  <dc:language>en-US</dc:language>
  <cp:lastModifiedBy>atsumiryudo</cp:lastModifiedBy>
  <dcterms:modified xsi:type="dcterms:W3CDTF">2009-08-11T02:36:51Z</dcterms:modified>
  <cp:revision>55</cp:revision>
  <dc:subject/>
  <dc:title>スライド 1</dc:title>
</cp:coreProperties>
</file>