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C25-9B24-4C15-ABEB-9B426BC2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396-27AC-48EC-AC6A-22ACDD0B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4F4-7AB7-4046-BA83-3BCD3533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24C-E3BF-49D1-919D-9DE51D06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070-1B11-4E69-A1E9-5A2F63C8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FCC-9B92-4D84-844C-75CCC678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56C-115B-4369-B68E-6E2BA86F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080-34C6-46B9-83E0-CCA5CD2C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A83-3124-4AB8-85D3-6A527F66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D3C-3447-40C8-9CAF-BC32CF35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C05-AD65-47A9-8505-B822EF53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E98-2764-4029-BA95-BB03EBB9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op_0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924840" cy="687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F39F-EEA7-4390-80E4-8FAC0B7ECC9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44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500" spc="-1" strike="noStrike">
                <a:solidFill>
                  <a:srgbClr val="3c7845"/>
                </a:solidFill>
                <a:latin typeface="Arial"/>
                <a:ea typeface="A-OTF じゅん Pro 501"/>
              </a:rPr>
              <a:t>お気軽にご相談ください</a:t>
            </a:r>
            <a:br>
              <a:rPr sz="6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〔文字は自由に変更できます。〕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952720"/>
            <a:ext cx="6324480" cy="23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症状の変化、かゆみ・痛みの不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薬に関する疑問などがあれ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ご相談くださ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〔文字は自由に変更できます。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2:51:39Z</dcterms:created>
  <dc:creator>k-yoshikawa</dc:creator>
  <dc:description/>
  <dc:language>en-US</dc:language>
  <cp:lastModifiedBy>atsumiryudo</cp:lastModifiedBy>
  <dcterms:modified xsi:type="dcterms:W3CDTF">2009-08-11T02:42:46Z</dcterms:modified>
  <cp:revision>58</cp:revision>
  <dc:subject/>
  <dc:title>スライド 1</dc:title>
</cp:coreProperties>
</file>