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52C-B580-4911-AB52-F9E47D56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E87-DB15-40BD-9551-CEC278F7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33F-A2FF-4479-AA08-730EF494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629-27DD-4912-99B4-49C56DB1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C74-CCD1-46FB-AA7F-4A8A395C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8D1-1047-4173-82AD-1997BC7A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8DF-25AA-46FF-A140-9604E1A1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AB51-CDA9-4677-85B9-836A11C2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C32-FD10-4EA6-BA80-4D60170B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B52-5BF5-4207-BED7-860C3079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5E0-B805-422B-8B98-9F6C53FB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988-3511-48C8-8F37-FD3C1DD3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op_01" descr=""/>
          <p:cNvPicPr/>
          <p:nvPr/>
        </p:nvPicPr>
        <p:blipFill>
          <a:blip r:embed="rId2"/>
          <a:stretch/>
        </p:blipFill>
        <p:spPr>
          <a:xfrm>
            <a:off x="-9360" y="-9360"/>
            <a:ext cx="6876720" cy="9924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7458-7B47-465D-BC83-E82D6A757687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520" y="1981080"/>
            <a:ext cx="523404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HG創英角ﾎﾟｯﾌﾟ体"/>
              </a:rPr>
              <a:t>担当医変更のお知ら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36360" y="3784680"/>
            <a:ext cx="4491000" cy="36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のため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　　　月　　日　　曜日　か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　　　月　　日　　曜日　まで　　　日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担当医が変更になりま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9200" y="5753160"/>
            <a:ext cx="259380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氏　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氏　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63680" y="3016080"/>
            <a:ext cx="5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〔文字は自由に変更できます。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2:51:39Z</dcterms:created>
  <dc:creator>k-yoshikawa</dc:creator>
  <dc:description/>
  <dc:language>en-US</dc:language>
  <cp:lastModifiedBy>atsumiryudo</cp:lastModifiedBy>
  <dcterms:modified xsi:type="dcterms:W3CDTF">2009-08-10T10:21:03Z</dcterms:modified>
  <cp:revision>53</cp:revision>
  <dc:subject/>
  <dc:title>スライド 1</dc:title>
</cp:coreProperties>
</file>